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3571-06A6-4E03-9EDF-A50F6818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F75A-0806-47E6-8396-8B8B9FDE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492-C8D6-4010-8AD4-E4D286E3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5635-8962-478E-8570-9E322ED5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9137-BF6B-47E6-94D6-CC9FF454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796E-2443-4FDD-89AF-65B6F6B3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03F-7801-41CD-85D9-2351D383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683-2ED6-41E1-937C-02F5CBEC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E4F9-5845-4E76-BBB6-B918C60E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B0CB-E7C0-4A20-A20B-4F446A57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334-C940-456E-A857-ABA875AA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01FF-A742-42A5-BCB0-6C311834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91DE-6ABD-48BE-A3AF-5838363DE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valstudie Mobiele Multi-Agent Syste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B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49280" y="6005520"/>
            <a:ext cx="340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ner Van B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rije Universiteit Bruss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17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20" y="1631880"/>
            <a:ext cx="46047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remotedict(“tecra/ses2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cb():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detanswer(welk):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play(wel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one()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b:createcb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calcdet([[1,8],[5,6]],c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calcdet([[1,28],[4,96]],c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85840" y="1554120"/>
            <a:ext cx="399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:remotedict(“duh.tecra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cdet(matrx,cb):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gentmove(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b.detanswer(matr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61080" y="928800"/>
            <a:ext cx="158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ra/ses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6800" y="928800"/>
            <a:ext cx="158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ra/ses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990720"/>
            <a:ext cx="0" cy="52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vironments, Diction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Invocat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2590920"/>
            <a:ext cx="198108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49560" y="3551400"/>
            <a:ext cx="51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cat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 Runtime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3480" y="4618080"/>
            <a:ext cx="6855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frame noemen w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IONARY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ionaries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D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satie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00" y="2498760"/>
            <a:ext cx="8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9960" y="396252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137160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44792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94400" y="2803680"/>
            <a:ext cx="8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6200" y="2575080"/>
            <a:ext cx="8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2160" y="341316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8080" y="396252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2160" y="396252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2743200"/>
            <a:ext cx="10666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29718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9718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019920" y="2819160"/>
            <a:ext cx="76176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2971800"/>
            <a:ext cx="76176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19112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419112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41911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9760" y="1538280"/>
            <a:ext cx="95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13160" y="1538280"/>
            <a:ext cx="142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84960" y="1538280"/>
            <a:ext cx="5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2209680"/>
            <a:ext cx="8839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sati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000" y="2498760"/>
            <a:ext cx="8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114800"/>
            <a:ext cx="19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60020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94400" y="2803680"/>
            <a:ext cx="8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66200" y="2575080"/>
            <a:ext cx="8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42160" y="4648320"/>
            <a:ext cx="1920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2743200"/>
            <a:ext cx="10666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29718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9718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019920" y="2819160"/>
            <a:ext cx="76176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4419720"/>
            <a:ext cx="83808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487692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48769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7480" y="1538280"/>
            <a:ext cx="95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89480" y="1538280"/>
            <a:ext cx="142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84960" y="1538280"/>
            <a:ext cx="5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18080" y="4479840"/>
            <a:ext cx="979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D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7680" y="341316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18080" y="37180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89880" y="34894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3657600"/>
            <a:ext cx="10666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388620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3886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943600" y="3733560"/>
            <a:ext cx="7621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2209680"/>
            <a:ext cx="8839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1080" y="52560"/>
            <a:ext cx="11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ou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000" y="3519360"/>
            <a:ext cx="513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andert zijn naam automatisch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6440" y="5043600"/>
            <a:ext cx="325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lookup nodi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56120" y="3976560"/>
            <a:ext cx="333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e agents bereike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7120" y="1766880"/>
            <a:ext cx="644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andert een agent zijn adres na migrati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590920" y="2286000"/>
            <a:ext cx="91440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228600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981080" y="4038480"/>
            <a:ext cx="76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01360" y="5470560"/>
            <a:ext cx="233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4038480"/>
            <a:ext cx="15238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31920" y="2803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37240" y="28036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41200" y="43275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27560" y="43275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tion Transpar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res van een agent wijzigt niet na mig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gratie moet minimale performantie impact heb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res moet zelf te kiezen z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30840" y="2651040"/>
            <a:ext cx="85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3600" y="409896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83120" y="440388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84240" y="447984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3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41240" y="127944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5160" y="4549680"/>
            <a:ext cx="211896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34680" y="4854600"/>
            <a:ext cx="211896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07080" y="4930920"/>
            <a:ext cx="19972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78080" y="3102120"/>
            <a:ext cx="19972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88120" y="1730520"/>
            <a:ext cx="199692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981080" y="3581280"/>
            <a:ext cx="13716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35812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266720" y="220968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209680"/>
            <a:ext cx="914400" cy="221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8080" y="1577880"/>
            <a:ext cx="3501360" cy="82404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 sub1.tecr.a/ses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reren naar sub2.tecr.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30840" y="2651040"/>
            <a:ext cx="85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3600" y="409896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83120" y="440388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84240" y="447984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3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41240" y="127944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1200" y="4549680"/>
            <a:ext cx="260676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34680" y="4854600"/>
            <a:ext cx="211896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07080" y="4930920"/>
            <a:ext cx="19972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78080" y="3102120"/>
            <a:ext cx="22258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88120" y="1730520"/>
            <a:ext cx="199692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981080" y="3581280"/>
            <a:ext cx="13716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35812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266720" y="220968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2209680"/>
            <a:ext cx="914400" cy="221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590920" y="4647960"/>
            <a:ext cx="304560" cy="22860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0840" y="2651040"/>
            <a:ext cx="85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3600" y="409896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83120" y="440388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84240" y="447984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3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41240" y="127944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1200" y="4549680"/>
            <a:ext cx="260676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30720" y="4854600"/>
            <a:ext cx="2530440" cy="118980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07080" y="4930920"/>
            <a:ext cx="19972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78080" y="3102120"/>
            <a:ext cx="24544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88120" y="1730520"/>
            <a:ext cx="199692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981080" y="3581280"/>
            <a:ext cx="13716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35812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66720" y="220968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29400" y="2209680"/>
            <a:ext cx="914400" cy="221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590920" y="4647960"/>
            <a:ext cx="304560" cy="22860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3124080"/>
            <a:ext cx="0" cy="38124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9160" y="1577880"/>
            <a:ext cx="3627720" cy="82404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als we sub1.tecr.a/ses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reren naar sub3.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30840" y="2651040"/>
            <a:ext cx="85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3600" y="409896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83120" y="4403880"/>
            <a:ext cx="1431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84240" y="447984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3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41240" y="127944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00" y="4549680"/>
            <a:ext cx="260676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30720" y="4854600"/>
            <a:ext cx="253044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07080" y="4930920"/>
            <a:ext cx="2225880" cy="46980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78080" y="3102120"/>
            <a:ext cx="24544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88120" y="1730520"/>
            <a:ext cx="253044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981080" y="3581280"/>
            <a:ext cx="13716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19720" y="35812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266720" y="220968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2209680"/>
            <a:ext cx="914400" cy="221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4647960"/>
            <a:ext cx="304560" cy="22860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257800" y="3200040"/>
            <a:ext cx="304920" cy="30492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biele Multi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e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ftw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e in staat is t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unicer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 andere agents en die k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grer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ussen verschillende 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interfac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ligent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4800600"/>
            <a:ext cx="312408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30840" y="2651040"/>
            <a:ext cx="85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3600" y="409896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83120" y="4403880"/>
            <a:ext cx="1431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84240" y="447984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3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41240" y="127944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1200" y="4549680"/>
            <a:ext cx="260676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30720" y="4854600"/>
            <a:ext cx="253044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07080" y="4930920"/>
            <a:ext cx="22258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78080" y="3102120"/>
            <a:ext cx="24544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88120" y="1730520"/>
            <a:ext cx="253044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981080" y="3581280"/>
            <a:ext cx="13716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812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266720" y="220968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29400" y="2209680"/>
            <a:ext cx="914400" cy="221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590920" y="4647960"/>
            <a:ext cx="304560" cy="22860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257800" y="3200040"/>
            <a:ext cx="304920" cy="30492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1828800"/>
            <a:ext cx="0" cy="38088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biel Multi-Agent Syste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 taal/library die mobiele multi agents onderste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mmuni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ig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ou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cont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tie van P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e with Objec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type gebasseerde 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bage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 Th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point(x,y):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x()::display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y()::display(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(nx)::x:=n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y(ny)::y:=n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on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createpoint(1,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printx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rg Ag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time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kele 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e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te Object C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ynchr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by deep value/Serialis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93840" y="4465800"/>
            <a:ext cx="530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agent&gt;.&lt;func&gt;(&lt;par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gr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ping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stopt zelf zijn uitvoering en wordt dan her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kel de agent kan zichzelf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scrip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gent, inclusief state, kan worden stil geleg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r agents worden mogelij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teit is exploiteerba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gr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scrip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te Connecties blijven gel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satie/Deserialis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4040" y="4160880"/>
            <a:ext cx="7743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gentmove(&lt;place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otheragent&gt;.agentmove(&lt;place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1T00:24:36Z</dcterms:created>
  <dc:creator>EDS Belgium N.V.</dc:creator>
  <dc:description/>
  <dc:language>en-US</dc:language>
  <cp:lastModifiedBy>werner van belle</cp:lastModifiedBy>
  <dcterms:modified xsi:type="dcterms:W3CDTF">2000-05-29T14:42:27Z</dcterms:modified>
  <cp:revision>17</cp:revision>
  <dc:subject/>
  <dc:title>Positie Optimalisaties Mobiele Multi Agent Systemen</dc:title>
</cp:coreProperties>
</file>